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785-7B02-4A5E-8F68-37633E7F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58D-64E0-4AF6-9F96-1DEFECB9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3BA-5FE6-449C-A287-B0594B3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F9C-8B8F-4003-9D69-4D75C536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A57A-7857-4696-8E1C-9090CD61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D12A-A22B-43B4-ADE0-B0A4762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D4DB-2ADC-44B2-95BC-C9E90037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B2A-310B-4F12-9CBD-65531523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575E-58A8-4CF1-9D6C-B9A6690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81B-13BE-4EDB-B83B-B90B1E58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25A-940F-4BB5-BCA3-A4359387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9D8-2A82-4E8E-A038-0AFD5D7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95DC-45EB-421C-A131-681B69F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312-24A1-48CE-8C1F-2B910306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F1A3-379B-4244-BE19-D4E270D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7435-D0D3-4F74-B227-4994AA80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45F4-8C3A-4F1B-AC7B-3441F35B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F6F8-C0AE-446A-AB79-B1FFA28F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2A42-9D19-4A9A-AED0-6DE5516C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86B1-B315-4BDC-950B-7EEC8CE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5FE0-C19F-478F-A120-89BBAA50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B019-2934-44CF-B226-48A0E1C4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3C7-9E66-4A8B-8F38-97DEBBCA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F28E-E6EE-4C75-9795-05E2DD14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B59C-5F6B-4052-AFDB-C23501E4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9070-A19D-4BF7-B2DA-927E0A1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731F-2188-4ACC-ABF6-9B5E86C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18C5-F3EE-4C2C-9F26-958B995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7FA8-0475-4E86-8BB8-119EBFB1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3CBA-9CF0-43D0-93AA-0675A2CA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F79C-2C7F-42C5-A5D7-9F2444A5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D71C-B1A7-4373-AE6B-B882E30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90E2-D972-4BF3-8A41-B17D07D4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22A-69F7-4EB7-A428-3B6BA76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3AF2-F5BE-4BA5-BC30-5AE2557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DF50-E6E9-4941-AF0B-A44798D8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F727-7B8C-47C9-8B3F-62285A11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A2D1-808E-4DCB-99F2-1673F66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BB4C-3AA5-4930-9E22-054AEB2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9A00-3F98-4D2F-A27D-84E0892C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9428-E0F1-4B19-85FB-B413A30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1CF7-7346-40C0-BF68-6546D12F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4958-AD74-45D7-9D37-57C87551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8C1D-1FF2-4B3C-B021-E33BE709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E26-1E59-4E29-B4D0-545CC7C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3DE6-2DBC-41A4-8151-09EE9F07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CCB3-C348-4E71-BB69-D381EA68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95CA-7AD8-44C0-9115-40F9FC5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C7A9-23A9-45BF-9EA1-D7DBDE01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89FD-B256-4771-983A-80E118E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02FC-6C84-4E62-ADBE-366ECA5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93C4-7F32-4F23-BF17-8B53228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15DF-1EF6-4B62-8CF3-80EFDFD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7DAB-AA54-4B84-B15C-31388BE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B214-6696-4873-A319-06FA7590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72B-2D14-4762-870F-8746B531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38F60-6E38-48E2-A552-3BABC093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C5E9E-A158-478F-A029-F920F38C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E45C4-FF72-4B7C-ABD0-E593E431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63BF-9E7A-42B0-A860-B1E45E26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F47DA-46D7-4CF3-BEF2-2791AF7D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6CFC-D28A-4E06-A7DF-DD127E51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E4DB-BF57-4570-BB6B-DD217DCA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163B-C492-4B1D-865B-910CCAD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FABC9-DC47-4F03-AEC9-1F1D184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FE0F-FDA0-43E7-BA5E-C463D6C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9EB-8090-4EC0-B404-036BCEAA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BAE7E-F4D9-418F-B275-D8D04BB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0BAE-2ECA-436C-9119-EEF69483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DD02-B09C-4E05-BC52-25BD1705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04E4-C01E-4337-82C4-31205D00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DE56-E11A-4C02-8E86-31047CFB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9133-B02F-405C-B31A-DEB6B5E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C1324-7967-4761-A1DC-5B64AFE5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7462-2236-4E32-8CF5-BD2D700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9B4D-7237-4E44-863C-F105421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9D42-317C-49F1-A492-087213D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6A1-F62A-432B-90C6-5B0D9E7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A0666-72FE-4B53-8238-C9759F9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EC0CB-50C0-4E50-A36E-3389C7EF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96F1E-16EA-41A0-A1F0-714914CC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2024-174B-495C-8468-96D7ED75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EB42-7347-4D4B-B6DD-756CE8B9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212-B2EE-471A-ACA2-23BF790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F16B1-F768-4868-8067-9A4D079785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29EDB-F575-4478-B718-EBC6A08DC13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62459-253E-4CD0-94BC-92F5BD966D4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C995C-BC64-463A-AFE5-CC1431D6813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249B7-3FAE-4C33-BD0B-540490B1408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D5FDB-B1D9-4230-90DA-4654B6990F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E6E7D-8D5A-4C66-B49B-E95068BD98E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w.right2write.co.uk/Images/OCR_logo.gif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15080" y="5423040"/>
            <a:ext cx="2428920" cy="143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healthbenefit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798480"/>
            <a:ext cx="60199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7dd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V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 high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cle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ength res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tress relea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Mor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mmunication / team wor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724280" y="22860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Century Gothic"/>
              </a:rPr>
              <a:t>Neg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mmune system – ope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juries – cruci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rthr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5008320" y="4711680"/>
            <a:ext cx="2837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Century Gothic"/>
              </a:rPr>
              <a:t>Band on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2568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right2write.co.uk/Images/OCR_logo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69000" y="5396040"/>
            <a:ext cx="247500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Gstrength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ed + acceler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lining ball/tim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otwor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ing the b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offering – changing dir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i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ting up a zo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TextBox 4" descr=""/>
          <p:cNvPicPr/>
          <p:nvPr/>
        </p:nvPicPr>
        <p:blipFill>
          <a:blip r:embed="rId11"/>
          <a:stretch/>
        </p:blipFill>
        <p:spPr>
          <a:xfrm>
            <a:off x="4730760" y="371520"/>
            <a:ext cx="3133800" cy="129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gweaknesse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48805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c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e play ball/catch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nd eye co-ord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ke line on C pa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or reaction tim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mina making easier to sco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cking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est pass no pow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TextBox 3" descr=""/>
          <p:cNvPicPr/>
          <p:nvPr/>
        </p:nvPicPr>
        <p:blipFill>
          <a:blip r:embed="rId12"/>
          <a:stretch/>
        </p:blipFill>
        <p:spPr>
          <a:xfrm>
            <a:off x="4809960" y="139680"/>
            <a:ext cx="3133800" cy="1292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13"/>
          <a:stretch/>
        </p:blipFill>
        <p:spPr>
          <a:xfrm>
            <a:off x="3090960" y="981000"/>
            <a:ext cx="615636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GActionplan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5228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Goal: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wer and consistency of chest p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Timescale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4w of 3 x 30 min session per we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Coaching Point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W.  Body weight, ball rotation, transfer of weight, extend arms,1 foot in front of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Drill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 o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irs moving arms as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ing footwork dr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x 2  10 p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x 3  10 p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 + post testing/perce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TextBox 3" descr=""/>
          <p:cNvPicPr/>
          <p:nvPr/>
        </p:nvPicPr>
        <p:blipFill>
          <a:blip r:embed="rId6"/>
          <a:stretch/>
        </p:blipFill>
        <p:spPr>
          <a:xfrm>
            <a:off x="4919760" y="288288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localandnational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59840" cy="933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79812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SFC competition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sports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Club – good coach/co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W high perf – advanced skills/abilities.  Onto England.  Long and short squad. 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 – car wash, bagging, spons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TextBox 3" descr=""/>
          <p:cNvPicPr/>
          <p:nvPr/>
        </p:nvPicPr>
        <p:blipFill>
          <a:blip r:embed="rId8"/>
          <a:stretch/>
        </p:blipFill>
        <p:spPr>
          <a:xfrm>
            <a:off x="4505400" y="4863960"/>
            <a:ext cx="380340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0:06:28Z</dcterms:created>
  <dc:creator>Scott  Chapman</dc:creator>
  <dc:description/>
  <dc:language>en-US</dc:language>
  <cp:lastModifiedBy>harria</cp:lastModifiedBy>
  <dcterms:modified xsi:type="dcterms:W3CDTF">2009-08-12T13:52:29Z</dcterms:modified>
  <cp:revision>13</cp:revision>
  <dc:subject/>
  <dc:title>G452 AS Practical EPIP</dc:title>
</cp:coreProperties>
</file>